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B0A-5F4F-41B8-B289-3167F280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652-B138-4D55-99C3-8B550AC2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0DE-0186-4F8E-8FA0-A313D3A7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661-82D7-4932-9940-E7F833B9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6CE0-3F99-45C6-BB3A-3A6EF451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757A-A87F-4F0A-B6A0-80C58120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2F30-9E87-43A9-AC0E-CF5F5C5E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73D1-12F3-43E6-9D57-394F2B34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F612-E308-45A6-9ED8-021F12BE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B28D-A4CF-401A-864F-8D48EB40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8B75-C65B-45BB-B9B7-935370DC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311E-CE81-4C69-BD1C-1F716FC6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E8CF-A41A-470A-8694-6F6DE13B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A988-1BDB-4934-BA08-9389FD45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32FF-0FD8-4EC1-A74E-29AE3F37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5E9B-0B61-44BC-911D-F6DEE948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2E2C-6FA0-4C54-B6A2-7D1991BC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33B-429A-4EB6-B228-101C711E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BFB-504A-46A5-9DE0-CDF962AE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369-530E-4BFD-AB4F-E2252718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3B6-72DD-4428-B419-AF1DDF6B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F01-824B-405B-891B-76116FE9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A76-3E82-42B1-BB6B-A08F758C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9CDC-9291-490E-80F9-DC65850F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78F5-A232-4A90-938C-789550E6CB9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497C-11D1-4918-A476-4F21F25A5D6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rugosvet.ru/articles/103/1010323/1010323a1.htm" TargetMode="External"/><Relationship Id="rId2" Type="http://schemas.openxmlformats.org/officeDocument/2006/relationships/hyperlink" Target="http://www.krugosvet.ru/articles/69/1006917/1006917a1.htm" TargetMode="External"/><Relationship Id="rId3" Type="http://schemas.openxmlformats.org/officeDocument/2006/relationships/hyperlink" Target="http://www.krugosvet.ru/articles/69/1006929/1006929a1.htm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16000" y="2492280"/>
            <a:ext cx="633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«Влияние алкоголя на организм человека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960720" y="4723920"/>
            <a:ext cx="518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полнила: Бахтегараева Р.Н. руководитель 8 «а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79280" y="189000"/>
          <a:ext cx="5113440" cy="6610320"/>
        </p:xfrm>
        <a:graphic>
          <a:graphicData uri="http://schemas.openxmlformats.org/drawingml/2006/table">
            <a:tbl>
              <a:tblPr/>
              <a:tblGrid>
                <a:gridCol w="1430280"/>
                <a:gridCol w="1330560"/>
                <a:gridCol w="1330200"/>
                <a:gridCol w="1022400"/>
              </a:tblGrid>
              <a:tr h="979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5. </a:t>
                      </a: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ЬНЫЕ АЛКОГОЛИЗМОМ СРЕДИ НАСЕЛЕНИЯ РОССИ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иагноз состоящих на учет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26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тносительное количество (показатели на 100 тыс. населения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лкоголизм, алкогольные психоз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30,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25,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4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лоупотребление алкоголе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96,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4,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5,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5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бсолютное количество (тыс. чел.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лкоголизм, алкогольные психоз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406,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209,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199,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лоупотребление алкоголе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38,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11,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07,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5651640" y="189000"/>
            <a:ext cx="32414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Потребление алкоголя в России является одним из самых высоких в мире. Согласно официальной статистике, ежегодное потребления алкоголя на душу населения в постсоветской России сначала взлетело с 5 л в 1992 до 9,3 л. в 1995, но затем стабилизировалось примерно на уровне 7–7,5 л. Однако с учетом суррогатного алкоголя (самогон, медицинский спирт и т.д.) общее количество потребления на душу населения оценивается примерно в 15 л.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012000" y="4724280"/>
            <a:ext cx="2592360" cy="194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26920" y="105264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На распространение алкоголизма в России сильно влияет не только и не столько количество потребляемых напитков, сколько манера их употребления. Типичный для европейцев способ потребления алкогольных напитков – часто, но малыми дозами (скажем, по рюмке красного вина каждый вечер). В России же чаще встречается употребление алкоголя в виде «ударных доз» – большое количество выпитого в сжатые сроки (например, запои по праздникам, когда выпивка измеряется бутылками 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8172360" y="189000"/>
            <a:ext cx="792360" cy="13158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8317080" y="3933720"/>
            <a:ext cx="539640" cy="1368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793800" cy="1317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50472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5 0.031 0.04129 C 0.031 0.06526 0.017 0.0839 0 0.0839 C -0.017 0.0839 -0.031 0.10255 -0.031 0.12519 C -0.031 0.14783 -0.017 0.16647 0 0.16647 C 0.017 0.16647 0.031 0.18512 0.031 0.20776 C 0.031 0.2304 0.017 0.24905 0 0.24905 C -0.017 0.24905 -0.031 0.26769 -0.031 0.29166 C -0.031 0.3143 -0.017 0.33295 0 0.33295 C 0.017 0.33295 0.031 0.3143 0.031 0.29166 C 0.031 0.26769 0.017 0.24905 0 0.24905 C -0.017 0.24905 -0.031 0.2304 -0.031 0.20776 C -0.031 0.18512 -0.017 0.16647 0 0.16647 C 0.017 0.16647 0.031 0.14783 0.031 0.12519 C 0.031 0.10255 0.017 0.0839 0 0.0839 C -0.017 0.0839 -0.031 0.06526 -0.031 0.04129 C -0.031 0.01865 -0.017 0 0 0 Z">
                                      <p:cBhvr>
                                        <p:cTn id="179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5 0.031 0.04129 C 0.031 0.06526 0.017 0.0839 0 0.0839 C -0.017 0.0839 -0.031 0.10255 -0.031 0.12519 C -0.031 0.14783 -0.017 0.16647 0 0.16647 C 0.017 0.16647 0.031 0.18512 0.031 0.20776 C 0.031 0.2304 0.017 0.24905 0 0.24905 C -0.017 0.24905 -0.031 0.26769 -0.031 0.29166 C -0.031 0.3143 -0.017 0.33295 0 0.33295 C 0.017 0.33295 0.031 0.3143 0.031 0.29166 C 0.031 0.26769 0.017 0.24905 0 0.24905 C -0.017 0.24905 -0.031 0.2304 -0.031 0.20776 C -0.031 0.18512 -0.017 0.16647 0 0.16647 C 0.017 0.16647 0.031 0.14783 0.031 0.12519 C 0.031 0.10255 0.017 0.0839 0 0.0839 C -0.017 0.0839 -0.031 0.06526 -0.031 0.04129 C -0.031 0.01865 -0.017 0 0 0 Z">
                                      <p:cBhvr>
                                        <p:cTn id="18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4798E-006 C 0.02778 -2.94798E-006 0.05087 0.01526 0.05087 0.03515 C 0.05087 0.05619 0.02778 0.07191 -1.94444E-006 0.07191 C -0.02778 0.07191 -0.05069 0.08879 -0.05069 0.10821 C -0.05069 0.12786 -0.02778 0.14428 -1.94444E-006 0.14428 C 0.02778 0.14428 0.05087 0.16 0.05087 0.18012 C 0.05087 0.19954 0.02778 0.21619 -1.94444E-006 0.21619 C -0.02778 0.21619 -0.05069 0.23214 -0.05069 0.25318 C -0.05069 0.27237 -0.02778 0.28971 -1.94444E-006 0.28971 C 0.02778 0.28971 0.05087 0.27237 0.05087 0.25318 C 0.05087 0.23214 0.02778 0.21619 -1.94444E-006 0.21619 C -0.02778 0.21619 -0.05069 0.19954 -0.05069 0.18012 C -0.05069 0.16 -0.02778 0.14428 -1.94444E-006 0.14428 C 0.02778 0.14428 0.05087 0.12786 0.05087 0.10821 C 0.05087 0.08879 0.02778 0.07191 -1.94444E-006 0.07191 C -0.02778 0.07191 -0.05069 0.05619 -0.05069 0.03515 C -0.05069 0.01526 -0.02778 -2.94798E-006 -1.94444E-006 -2.94798E-006 Z">
                                      <p:cBhvr>
                                        <p:cTn id="183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1849 C 0.01493 -0.01849 0.02899 0.000230000000000001 0.02899 0.02289 C 0.02899 0.04671 0.01493 0.06544 -0.00208 0.06544 C -0.0191 0.06544 -0.03316 0.08416 -0.03316 0.10659 C -0.03316 0.12925 -0.0191 0.14798 -0.00208 0.14798 C 0.01493 0.14798 0.02899 0.16671 0.02899 0.18937 C 0.02899 0.21179 0.01493 0.23052 -0.00208 0.23052 C -0.0191 0.23052 -0.03316 0.24925 -0.03316 0.27307 C -0.03316 0.29573 -0.0191 0.31445 -0.00208 0.31445 C 0.01493 0.31445 0.02899 0.29573 0.02899 0.27307 C 0.02899 0.24925 0.01493 0.23052 -0.00208 0.23052 C -0.0191 0.23052 -0.03316 0.21179 -0.03316 0.18937 C -0.03316 0.16671 -0.0191 0.14798 -0.00208 0.14798 C 0.01493 0.14798 0.02899 0.12925 0.02899 0.10659 C 0.02899 0.08416 0.01493 0.06544 -0.00208 0.06544 C -0.0191 0.06544 -0.03316 0.04671 -0.03316 0.02289 C -0.03316 0.000230000000000001 -0.0191 -0.01849 -0.00208 -0.01849 Z">
                                      <p:cBhvr>
                                        <p:cTn id="18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50920" y="189000"/>
          <a:ext cx="8569080" cy="3079800"/>
        </p:xfrm>
        <a:graphic>
          <a:graphicData uri="http://schemas.openxmlformats.org/drawingml/2006/table">
            <a:tbl>
              <a:tblPr/>
              <a:tblGrid>
                <a:gridCol w="1762200"/>
                <a:gridCol w="1554120"/>
                <a:gridCol w="1554120"/>
                <a:gridCol w="1371600"/>
                <a:gridCol w="1371600"/>
                <a:gridCol w="955440"/>
              </a:tblGrid>
              <a:tr h="9349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6. </a:t>
                      </a: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РЕДНЕДУШЕВОЕ ГОДОВОЕ ПОТРЕБЛЕНИЕ СПИРТО-ВОДОЧНЫХ НАПИТКОВ В ЛИТРАХ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3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4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6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,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611280" y="4076640"/>
            <a:ext cx="806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Несмотря на очевидную связь алкоголизма и острых социальных проблем, за последние 20 лет потребление алкоголя в мире удвоилось. Более 80% этого объема приходится на более развитые в промышленном отношении страны Западной Европы, США, постсоветские государства. Наименее затронуты «зеленым змием» страны ислама, где религия строго запрещает употребление спиртного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371628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357336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Россия является лидером по употреблению спиртоводочных напитков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79280" y="333360"/>
            <a:ext cx="5040360" cy="53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Влияние алкоголя на организм человека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Принятый алкоголь быстро всасывается и поступает в кровь. Из крови алкоголь поступает в ткани, где распределяется неравномерно. Поскольку он хорошо растворяется в липидах – жироподобных веществах, которыми богаты нервные клетки, – то наибольшее его накопление происходит в мозгу. Именно эти клетки и гибнут в первую очередь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2797200" cy="63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395280" y="907920"/>
          <a:ext cx="8532720" cy="5400720"/>
        </p:xfrm>
        <a:graphic>
          <a:graphicData uri="http://schemas.openxmlformats.org/drawingml/2006/table">
            <a:tbl>
              <a:tblPr/>
              <a:tblGrid>
                <a:gridCol w="2560680"/>
                <a:gridCol w="3071880"/>
                <a:gridCol w="2900160"/>
              </a:tblGrid>
              <a:tr h="505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3. 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ТЕПЕНИ ОПЬЯНЕ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Легкая степень опьяне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редняя степень опьяне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яжелая степень опьяне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вышается настроение, облегчается общение, появляется ощущение мышечного расслабления и физического комфорта. Мимика становится более выразительной, движения менее точным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место благодушного настроения может возникнуть раздражительность, обидчивость иногда злостность и агрессия. Критика к себе и окружающим снижается. Нарушаться координация движения и походка. Речь становиться невнятной. Снижается болевая и температурная чувствительность. После опьянения обычно отмечаться симптомы интоксикации: головная боль, слабость, жажда, сниженное настроение с апатией или раздражительностью. Память на период опьянения обычно не нарушаетс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тмечаются симптомы выключения сознания от оглушения до комы. Иногда возникают эпилептические припадки. Возможно непроизвольное мочеиспускание и дефекации. Подобное состояние как правило полностью отсутствует в памяти человек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1763640" y="26028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Степени алкогольного опьян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619280" y="33336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Механизм гибели клеток при употреблении спиртного был раскрыт в 1960-х советскими и американскими ученым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2205000"/>
            <a:ext cx="7848360" cy="25923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2781360"/>
            <a:ext cx="784836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2349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2276640"/>
            <a:ext cx="748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aea"/>
                </a:solidFill>
                <a:latin typeface="Tahoma"/>
              </a:rPr>
              <a:t>Таблица 8.        МЕХАНИЗМ ГИБЕЛИ КЛЕТОК ПОД ДЕЙСТВИЕМ АЛКОГОЛЯ.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092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3068640"/>
            <a:ext cx="14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клеивание эритроцитов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2400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3068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закупорка капилляр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472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32360" y="2924280"/>
            <a:ext cx="18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прекращение подачи кислорода и питательных веществ в клетку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451640" y="3213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гибель клет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4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88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04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8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492360" y="4941720"/>
            <a:ext cx="196056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979640" y="189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Мотивы употребления алкоголя в разных возраст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16000" y="1989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42920" y="119700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Хотя поводы первого приобщения к алкоголю разнообразны, но прослеживаются их характерные изменения в зависимости от возраста. В целом мотивы употребления спиртного делятся на две группы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2852640"/>
            <a:ext cx="7201080" cy="3357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26920" y="3357720"/>
            <a:ext cx="7201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299736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Мотивы употребления  спиртного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42920" y="3500280"/>
            <a:ext cx="32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молоды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6920" y="4508640"/>
            <a:ext cx="3745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88000" y="35002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взрослых люде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00720" y="4508640"/>
            <a:ext cx="352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16000" y="4508640"/>
            <a:ext cx="3168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ледовать традициям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испытывать новые ощущения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любопытство,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«для храбрости» и т.п.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00720" y="4437000"/>
            <a:ext cx="345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стремление избавиться от скуки.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нять с себя напряжение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освободиться от неприятных переживаний в семье, профессиональном, учебном коллектив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3357720"/>
            <a:ext cx="0" cy="1150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56000" y="4508640"/>
            <a:ext cx="0" cy="1657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Таблица 7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403280" y="33336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ahoma"/>
              </a:rPr>
              <a:t>Отношение школьников к пьянству в зависимости от возраст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317840" y="1773360"/>
          <a:ext cx="482616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7840" y="1773360"/>
                    <a:ext cx="482616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324000" y="1916280"/>
            <a:ext cx="3960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 возрастом меняются оценки учащимися состояния опьянения окружающих. Частота случаев квалификации пьянства как нормального явления имеет у мальчиков прямую связь с увеличением возраста. Юноши в 16 лет с меньшим осуждением, чем девушки, относятся к пьянству окружающих. В наибольшей степени затрудняются однозначно выражают свое отношение к пьянству дети 9 лет (в равной мере девочки и мальчики). Но, начиная с 13 лет, девочки определеннее мальчиков выражали свое отношение к пьянству окружающих. Надо заметить, что девочки вообще более однозначно высказывались по всем предложенным вопросам, чем мальчик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00720" y="602136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Исследование проводилось в Росси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5928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0072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11280" y="4762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Отношение  школьников к употреблению спиртных напитков в компании друзей (на 100 обследованных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19440" y="-518400"/>
            <a:ext cx="194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Мальчики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Девочк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7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2708280"/>
          <a:ext cx="442764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442764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356000" y="2782800"/>
          <a:ext cx="4788000" cy="37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2782800"/>
                    <a:ext cx="47880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755640" y="2349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80000" y="2349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403280" y="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Опрос школьников 16-ти лет по употреблению спиртных напитков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692280"/>
            <a:ext cx="853272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Считаете ли Вы алкоголь желательным элементом время провождения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да-3 (12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нет-6 (24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в) по обстоятельствам-16 (64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Употребляйте ли вы алкоголь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да-19 (76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нет-6 (24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Какой алкогольный  напиток Вы предпочитаете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пиво-4 (14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вино-9 (28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в) водку-1 (3,5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г) коньяк-3 (63,12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д) ликеры-3 (10,5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е) другое-5 (31,5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В какой обстановке употребление алкоголя доставляет Вам наибольшее удовольствие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в одиночестве-1 (5,26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в интимной обстановке-3 (12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в) на занятиях-0 (0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г) с друзьями-12 (63,12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д) все равно-9 (31.5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56000" y="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Введе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620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Проблема употребления алкоголя очень актуальна в наши дни. Сейчас потребление спиртных напитков в мире характеризуется огромными цифрами. От этого страдает все общество, но в первую очередь под угрозу ставится подрастающее поколение: дети, подростки, молодежь, а также здоровье будущих матерей. Ведь алкоголь особенно активно влияет на несформировавшийся организм, постепенно разрушая его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Вред алкоголя очевиден. Доказано, что при попадании алкоголя внутрь организма, он разносится по крови ко всем органам и неблагоприятно действует на них вплоть до разрушения. При систематическом употреблении алкоголя развивается опасная болезнь алкоголизм. Алкоголизм опасен для здоровья человека, но он излечим, как и многие другие болезни. 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Но главная проблема состоит в том, что большая часть алкогольной продукции, выпускаемой  негосударственными предприятиями, содержит большое количество ядовитых веществ. Недоброкачественная продукция нередко приводит к отравлениям и даже смертям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Все это наносит большой урон обществу, его культурным ценностям. Я обратился к этой теме  потому, что меня как подростка ,прежде всего, касается эта проблема. При выполнении проекта я анализировал научную литературу, таблицы, а так же использовал данные социологических  опрос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95280" y="260280"/>
            <a:ext cx="8064360" cy="51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4. В какой обстановке употребление алкоголя доставляет Вам наибольшее удовольствие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а) в одиночестве-2 (5,26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б) в интимной обстановке-1 (5,26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в) на занятиях-0 (0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г) с друзьями-12 (63,12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д) все равно10 (26,3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5. Где вы предпочитаете употреблять алкоголь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а) на природе, на улице-7 (36,82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б) в кафе, дома-7 (36,82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г) в школе-0 (0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д) все равно-5 (26,3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6. Как часто Вы употребляете алкоголь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а) редко, от случая к случаю-9 (31.5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б) два раза в неделю и чаще-2 (8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в) иногда-11 (48.5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г) когда есть средства-3 (12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7. Влияет ли по-вашему, небольшое количество алкоголя на усвоение ученого материала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а) да, сильно влияет- 12(63.12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б) в некоторой мере-6 (24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в) нет-7 (28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Опрошено: 25 челове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79280" y="18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Статистика употребления алкоголя а нашей гимназии(опрос среди всех классов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268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Употребляли ли Вы хотя бы раз в жизни алкоголь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03640" y="1844640"/>
            <a:ext cx="1800000" cy="2037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7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8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9 класс-8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0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1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56000" y="213372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786720" y="4076640"/>
            <a:ext cx="1984320" cy="2338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1649160" cy="22906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627280" y="4437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476360" y="33336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Выв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907920"/>
            <a:ext cx="8713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Необходимость усиления  противоалкогольной  работы  с  подростка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бусловлена прежде  всего  распространенностью  употребления  алкогол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реди населения. Пьянство  родителей создает, с одной стороны, крайне н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благоприятные условия для нравственного воспитания и интеллектуальног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развития детей  и подростков; с другой стороны, способствует их раннему приобщению к употреблению алкогольных напитков. В свою очередь раннее приобщение к  алкоголю и систематическое его употребление в молодые годы приводят к пьянству и раннему развитию алкоголизма. Употребление  алкоголя тяжело сказывается на здоровье нравственном и умственном, развитии подростк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собенно чревато последствиями употребление спиртных напитков в переходном возрасте  (10-20лет). Употребление  алкогольных  напитков  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этом возрасте способно надолго задержать, а в особо тяжелых  случаях  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овсе остановить  формирование этических и нравственных категорий, раз-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ития высших форм мышления, эстетических понятий. При неустойчивой нервной системе, еще  несформировавшихся жизненных  взглядах и убеждениях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подросток под влиянием алкоголя нередко становится более восприимчивым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к примерам негативного поведения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удя по проведенному исследованию, я пришел к выводу что необходимо запретить продажу алкогольных напитков лицам моложе 18 лет, а также запретить пропагандировать алкоголь через средства массовой информаци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БИБЛИОГРАФИЧЕСКИЙ СПИСОК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1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А.В. Немцов Алкогольная ситуация в России/ Доклад по политике в области общественного здоровья №2 Серии "Здоровье для всех - все для здоровья в России" под редакции А.К. Демина. Российская Ассоциация общественного здоровья, Фонд "Здоровье и окружающая среда". М.,1995. - 126 с.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- Никитин Ю.П., Кирилович С.А., Авксентюк А.В. Эпидемиология потребления алкоголя мужчинами г. Новосибирска/ Вопросы наркологии, 1993, №3, С. 76-81.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Авербах Л.К., Шамота А.З. Потребление алкоголя и некоторые показатели алкоголизации населения/ Вопросы наркологии, -1992, №2, С. 32-37.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11 - Немцов А.В. Уровень реального потребления алкоголя в Российской федерации (1981 - 1990 гг.)/ Социальная и клиническая психиатрия, 1992, 2, № 4, С. 46-53. 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12 - А.К. Демин, И.А. Демина Здоровье населения и алкогольная эпидемия в России: лекарство от жизни?/ "Алкоголь и здоровье населения России 1900-2000" под редакции А.К. Демина. Российская Ассоциация общественного здоровья. М., 1998. - С.16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403280" y="476280"/>
            <a:ext cx="5472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ЛКОГОЛИЗ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alcoholism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биопсихосоциальное заболевание, в основе которого лежит зависимость человека от алкоголя («алкоголь» по-арабски «одурманивающий»), является одной из форм отклоняющегося (девиантного) поведе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24000" y="2924280"/>
          <a:ext cx="8459640" cy="2749320"/>
        </p:xfrm>
        <a:graphic>
          <a:graphicData uri="http://schemas.openxmlformats.org/drawingml/2006/table">
            <a:tbl>
              <a:tblPr/>
              <a:tblGrid>
                <a:gridCol w="3995640"/>
                <a:gridCol w="44640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1. </a:t>
                      </a: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ДЕРЖАНИЕ ПОНЯТИЯ «АЛКОГОЛИЗМ»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езнь индивида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формирование у него психологической и физиологической зависимости от спиртног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циальная патология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проявление социального неблагополучия и причина его усиле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71640" y="28080"/>
            <a:ext cx="734544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eaeaea"/>
                </a:solidFill>
                <a:uFillTx/>
                <a:latin typeface="Tahoma"/>
              </a:rPr>
              <a:t>Исторические закономерности развития алкоголизм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Опьяняющие напитки известны человечеству со времен первобытности. Их потребление чаще всего было частью религиозного ритуала, которым сопровождались празднества. Однако уже в древности появилось как чисто бытовое потребление алкоголя, так и злоупотребление им. 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87280" y="126828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Открытие технологии изготовления спирта  сделали арабы в 9 в. Но в Европе она получила распространение лишь с 13–15 вв. Поэтому спиртные напитки были относительно слабыми, что сильно сдерживало распространение алкоголизма. Поэтому в древнем мире и в средние века алкоголизм существовал только как индивидуальное заболевание, но не как социальная патолог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414972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Социальной патологией алкоголизм в Западной Европе стал лишь в эпоху нового времени. Известно, например, что в 18 в. среди английских бедняков самое широкое распространение получил дешевый джин. Чтобы остановить распространение пьянства, государства Западной Европы начали ужесточать контроль за качеством спиртного и повышать его цену за счет специальной наценки (акциза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71640" y="333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Появление алкоголя в Европ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32000" y="1751040"/>
            <a:ext cx="655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Проблема алкоголизма в России усугублялась преобладанием на российском рынке низкокачественных сортов водки. Систематический экспорт русской ржаной водки в Германию привел к преобладанию на внутреннем российском рынке дешевой картофельной водки из украинских губерний, что способствовало распространению в России самых худших форм пьянства. Правительство отказывалось бороться с ним, поскольку в начале 20 в. более 1/3 доходов ежегодного госбюджета составляла именно выручка от торговли водко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9236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Алкоголизм в Росс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692360" y="1052640"/>
            <a:ext cx="655308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Фискальный интерес к продаже алкоголя сохранился и в советскую эпоху. Поэтому в СССР осталась «традиция» чрезмерного винопития, алкоголизм по-прежнему являлся острой национальной проблемой. Тяга к «зеленому змию» получила широкое распространение не только у «простых» людей, но и среди творческой интеллигенции (можно вспомнить, например, </a:t>
            </a:r>
            <a:r>
              <a:rPr b="0" lang="ru-RU" sz="1800" spc="-1" strike="noStrike" u="sng">
                <a:solidFill>
                  <a:srgbClr val="65b2ff"/>
                </a:solidFill>
                <a:uFillTx/>
                <a:latin typeface="Tahoma"/>
                <a:hlinkClick r:id="rId1"/>
              </a:rPr>
              <a:t>С.Есенина</a:t>
            </a: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, А.Фадеева, </a:t>
            </a:r>
            <a:r>
              <a:rPr b="0" lang="ru-RU" sz="1800" spc="-1" strike="noStrike" u="sng">
                <a:solidFill>
                  <a:srgbClr val="65b2ff"/>
                </a:solidFill>
                <a:uFillTx/>
                <a:latin typeface="Tahoma"/>
                <a:hlinkClick r:id="rId2"/>
              </a:rPr>
              <a:t>А.Твардовского</a:t>
            </a: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, </a:t>
            </a:r>
            <a:r>
              <a:rPr b="0" lang="ru-RU" sz="1800" spc="-1" strike="noStrike" u="sng">
                <a:solidFill>
                  <a:srgbClr val="65b2ff"/>
                </a:solidFill>
                <a:uFillTx/>
                <a:latin typeface="Tahoma"/>
                <a:hlinkClick r:id="rId3"/>
              </a:rPr>
              <a:t>В.Высоцкого</a:t>
            </a: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Продажа алкоголя в советское врем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900000" y="3544920"/>
            <a:ext cx="2406600" cy="3313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6443640" y="3573360"/>
            <a:ext cx="24447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татистика потребления алкоголя в России(таблица 4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409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87280" y="333360"/>
            <a:ext cx="6553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ahoma"/>
              </a:rPr>
              <a:t>В 1990-е на российском рынке появилось большое количество низкопробных, часто фальсифицированных (нестандартных и низкокачественных) крепких алкогольных напитков. Российский рынок захлестнул поток отечественных и иностранных псевдоводок, широко распространилось самогоноварение. По некоторым данным, в 1993 каждая четвертая бутылка была подделкой. В результате проблема алкоголизма стала еще более острой: на учете в лечебно-профилактических учреждениях состояло более 2,5 млн. человек, но реальное число больных алкоголизмом было заметно выше – порядка 10 млн. (примерно 7% всего населения). От алкогольного отравления в 1990-е ежегодно умирало примерно 30 тыс. человек (большинство из них – жертвы суррогатов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43000" cy="1439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7740720" y="5373720"/>
            <a:ext cx="1218960" cy="1257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7451640" y="189000"/>
            <a:ext cx="1548000" cy="1376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179280" y="537372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3:46:55Z</dcterms:created>
  <dc:creator>Михаил</dc:creator>
  <dc:description/>
  <dc:language>en-US</dc:language>
  <cp:lastModifiedBy>~Valdik~</cp:lastModifiedBy>
  <dcterms:modified xsi:type="dcterms:W3CDTF">2002-01-18T04:59:53Z</dcterms:modified>
  <cp:revision>60</cp:revision>
  <dc:subject/>
  <dc:title>Слайд 1</dc:title>
</cp:coreProperties>
</file>